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8.png" ContentType="image/png"/>
  <Override PartName="/ppt/media/image1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56D5-906A-4964-BFF9-3A218A98E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F55E-5B09-4B18-99B2-B7CCE665B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332B-B4B9-48CC-B865-5731961C5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235B-651C-4BC4-B0C8-BF7D7C9E8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2382-B069-4604-8F7B-884A79AD0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2C45D-35D6-4D0D-8136-4EB68C03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FFFB-19B7-42F6-B9DB-EDD18669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D45F3-A39E-4EED-8597-4B2F482C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FDA24-4B75-4C03-A61A-4845B4AE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690D-A8FF-4C64-9742-C81FE463F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5452-18A1-434D-8354-DDADE2B35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37CF-8A78-4B21-A582-8FA11E91C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02E70-0186-42D8-9322-3E1A9981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0D6F-F012-4D7C-8039-E290196F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CD8D-2166-407C-A0F1-5B820CE75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CF3E-A3B4-4744-9109-42C076128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835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576760" y="396252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9072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835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576760" y="4878360"/>
            <a:ext cx="21834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A6379-BE2C-42BA-BBDB-DAD231C6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21D-91E9-4E0B-8D19-595232F7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6E01-1C45-4B92-885E-6F0A704A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C677-442A-4538-B2D2-9767ABC95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90720" y="190512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38C0-6397-49F8-9CCA-52A80122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CF6B-4492-4BD9-B7B8-B8E896F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465800" y="487836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EEC9-1072-4B92-88A8-B09B3779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72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65800" y="3962520"/>
            <a:ext cx="33091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720" y="4878360"/>
            <a:ext cx="6781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4EA0-5BDE-485A-B1E8-630BD63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CDA4-B5F8-4A66-B390-E815454F04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9EA2-AC2D-457E-AD20-8BC8993089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73272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Рисунок1-коп222ия"/>
          <p:cNvPicPr/>
          <p:nvPr/>
        </p:nvPicPr>
        <p:blipFill>
          <a:blip r:embed="rId2"/>
          <a:stretch/>
        </p:blipFill>
        <p:spPr>
          <a:xfrm>
            <a:off x="0" y="0"/>
            <a:ext cx="2808360" cy="3636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2800" y="260280"/>
            <a:ext cx="906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опытом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лужб автоматики и телемеханик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лезных дорог по обеспечению безопасной работы устройств ЖАТ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2010 году и задачам на 2011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79640" y="24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ыступление начальника  отдела развития и модернизации технических средств ЖА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Департамента автоматики и телемехан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.А.Шубк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050200" y="2276640"/>
            <a:ext cx="7093080" cy="360"/>
          </a:xfrm>
          <a:prstGeom prst="line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24000" y="4365720"/>
            <a:ext cx="7092720" cy="360"/>
          </a:xfrm>
          <a:prstGeom prst="line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6400800"/>
            <a:ext cx="33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рославль -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Безымянный1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5977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50920" y="241200"/>
            <a:ext cx="2376360" cy="308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8918280" y="0"/>
            <a:ext cx="265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-684360" y="44280"/>
            <a:ext cx="10639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нализ</a:t>
            </a:r>
            <a:r>
              <a:rPr b="1" lang="en-US" sz="28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оборудования 2-х и многопутных перегонов постоянно действующей 2-х сторонней АБ на 01.01.11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395280" y="1557360"/>
          <a:ext cx="8488440" cy="524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1557360"/>
                    <a:ext cx="8488440" cy="52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820360" y="117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0" y="620640"/>
            <a:ext cx="9144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600" spc="-1" strike="noStrike">
                <a:solidFill>
                  <a:srgbClr val="a50021"/>
                </a:solidFill>
                <a:latin typeface="Arial Black"/>
                <a:ea typeface="Arial"/>
              </a:rPr>
              <a:t>Системные меры</a:t>
            </a:r>
            <a:br>
              <a:rPr sz="3600"/>
            </a:b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по обеспечению качества при строительст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еконструкции и модернизации технических средств 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1557360"/>
            <a:ext cx="9144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. Проектирование, экспертиза, согласование и утверждение ПС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79280" y="1989000"/>
          <a:ext cx="8964720" cy="4718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989000"/>
                    <a:ext cx="8964720" cy="47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Picture 11" descr="Рисунок1-коп222ия"/>
          <p:cNvPicPr/>
          <p:nvPr/>
        </p:nvPicPr>
        <p:blipFill>
          <a:blip r:embed="rId3"/>
          <a:stretch/>
        </p:blipFill>
        <p:spPr>
          <a:xfrm>
            <a:off x="34920" y="63360"/>
            <a:ext cx="2089080" cy="27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0" y="404640"/>
            <a:ext cx="9144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a50021"/>
                </a:solidFill>
                <a:latin typeface="Arial Black"/>
                <a:ea typeface="Arial"/>
              </a:rPr>
              <a:t>Системные меры</a:t>
            </a: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по обеспечению качества при строительст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еконструкции и модернизации технических средств 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08000" y="115920"/>
            <a:ext cx="2089080" cy="2700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108000" y="1519200"/>
            <a:ext cx="8964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I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. Строительство. Организация и контроль выполнения СМ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08000" y="1913040"/>
          <a:ext cx="8964720" cy="4944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913040"/>
                    <a:ext cx="8964720" cy="494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"/>
          <p:cNvSpPr/>
          <p:nvPr/>
        </p:nvSpPr>
        <p:spPr>
          <a:xfrm>
            <a:off x="8791920" y="5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820360" y="1173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0" y="404640"/>
            <a:ext cx="9144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  <a:ea typeface="Arial"/>
              </a:rPr>
              <a:t>Системные меры</a:t>
            </a: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по обеспечению качества при строительст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еконструкции и модернизации технических средств 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08000" y="115920"/>
            <a:ext cx="2089080" cy="27000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9280" y="1503360"/>
            <a:ext cx="889344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II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. Подготовка к вводу и приемка объектов ЖАТ в эксплуатаци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79280" y="2205000"/>
          <a:ext cx="8893440" cy="44784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205000"/>
                    <a:ext cx="8893440" cy="44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8820360" y="586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0" y="504720"/>
            <a:ext cx="9144000" cy="1052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8000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 Black"/>
                <a:ea typeface="Arial"/>
              </a:rPr>
              <a:t>Системные меры</a:t>
            </a:r>
            <a:r>
              <a:rPr b="0" lang="en-US" sz="1800" spc="-1" strike="noStrike">
                <a:solidFill>
                  <a:srgbClr val="a50021"/>
                </a:solidFill>
                <a:latin typeface="Arial Black"/>
                <a:ea typeface="Arial"/>
              </a:rPr>
              <a:t> 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по обеспечению качества при строительстве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  <a:ea typeface="Arial"/>
              </a:rPr>
              <a:t>реконструкции и модернизации технических средств ЖА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08000" y="115920"/>
            <a:ext cx="2089080" cy="270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24000" y="1519200"/>
            <a:ext cx="8569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ahoma"/>
              </a:rPr>
              <a:t>IV</a:t>
            </a:r>
            <a:r>
              <a:rPr b="1" lang="ru-RU" sz="2000" spc="-1" strike="noStrike">
                <a:solidFill>
                  <a:srgbClr val="a50021"/>
                </a:solidFill>
                <a:latin typeface="Tahoma"/>
              </a:rPr>
              <a:t>. Переключение и ввод объекта в эксплуатацию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324000" y="1959120"/>
          <a:ext cx="8638920" cy="4898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959120"/>
                    <a:ext cx="8638920" cy="48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6732720" y="5048280"/>
            <a:ext cx="2411280" cy="180972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1" descr="Рисунок1-коп222ия"/>
          <p:cNvPicPr/>
          <p:nvPr/>
        </p:nvPicPr>
        <p:blipFill>
          <a:blip r:embed="rId2"/>
          <a:stretch/>
        </p:blipFill>
        <p:spPr>
          <a:xfrm>
            <a:off x="0" y="0"/>
            <a:ext cx="2808360" cy="36360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82800" y="260280"/>
            <a:ext cx="9067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Обмен опытом работ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служб автоматики и телемеханики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железных дорог по обеспечению безопасной работы устройств ЖАТ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в 2010 году и задачам на 2011 го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1187280" y="1916280"/>
            <a:ext cx="9757080" cy="38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Спасибо за внимание!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270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Безымянный1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738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107" name="Text Box 4"/>
          <p:cNvSpPr/>
          <p:nvPr/>
        </p:nvSpPr>
        <p:spPr>
          <a:xfrm>
            <a:off x="-252360" y="476280"/>
            <a:ext cx="9790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Анализ состояния систем ЭЦ по срокам служб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на сети железных дорог (стр.) по состоянию на 01.01.1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307800" y="1413000"/>
            <a:ext cx="872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Всего оснащенность сети железных дорог системами ЭЦ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9080 стр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Object 6"/>
          <p:cNvGraphicFramePr/>
          <p:nvPr/>
        </p:nvGraphicFramePr>
        <p:xfrm>
          <a:off x="-392040" y="1720800"/>
          <a:ext cx="9536040" cy="5137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0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92040" y="1720800"/>
                    <a:ext cx="9536040" cy="51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887688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4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270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Безымянный1"/>
          <p:cNvPicPr/>
          <p:nvPr/>
        </p:nvPicPr>
        <p:blipFill>
          <a:blip r:embed="rId2"/>
          <a:stretch/>
        </p:blipFill>
        <p:spPr>
          <a:xfrm>
            <a:off x="324000" y="260280"/>
            <a:ext cx="8567640" cy="64278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graphicFrame>
        <p:nvGraphicFramePr>
          <p:cNvPr id="114" name="Object 41"/>
          <p:cNvGraphicFramePr/>
          <p:nvPr/>
        </p:nvGraphicFramePr>
        <p:xfrm>
          <a:off x="324000" y="1916280"/>
          <a:ext cx="8577000" cy="409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5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1916280"/>
                    <a:ext cx="8577000" cy="40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Text Box 42"/>
          <p:cNvSpPr/>
          <p:nvPr/>
        </p:nvSpPr>
        <p:spPr>
          <a:xfrm>
            <a:off x="540720" y="1628640"/>
            <a:ext cx="116604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трелки ЭЦ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7811640" y="3645000"/>
            <a:ext cx="105336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роги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79"/>
          <p:cNvSpPr/>
          <p:nvPr/>
        </p:nvSpPr>
        <p:spPr>
          <a:xfrm>
            <a:off x="8531280" y="605484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78"/>
          <p:cNvSpPr/>
          <p:nvPr/>
        </p:nvSpPr>
        <p:spPr>
          <a:xfrm>
            <a:off x="0" y="260280"/>
            <a:ext cx="89298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нали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ния технических средств ЭЦ станци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лезных дорог Р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01.01.11 г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87688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4360" y="29973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7744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836000" y="3429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99440" y="348768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6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340720" y="23367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12360" y="270828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844000" y="29973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5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1708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96520" y="29973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6816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80720" y="2852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2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72880" y="31417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2720" y="3068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708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1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736520" y="3068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88720" y="3284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68160" y="292428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239800" y="31417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52360" y="2852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3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5440" y="31417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7080" y="3068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228720" y="3284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89080" y="3068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681240" y="3284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800" y="328464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5440" y="3429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5800" y="31417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597080" y="335772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2872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20880" y="33447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460720" y="299736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552880" y="3213000"/>
            <a:ext cx="41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270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" descr="Безымянный1"/>
          <p:cNvPicPr/>
          <p:nvPr/>
        </p:nvPicPr>
        <p:blipFill>
          <a:blip r:embed="rId2"/>
          <a:stretch/>
        </p:blipFill>
        <p:spPr>
          <a:xfrm>
            <a:off x="324000" y="260280"/>
            <a:ext cx="8496000" cy="63738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8876880" y="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-468360" y="333360"/>
            <a:ext cx="101268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Анализ состояния систем АБ по срокам службы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</a:rPr>
              <a:t>на сети железных дорог (км) по состоянию на 01.01.1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539640" y="1268280"/>
            <a:ext cx="911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сего оснащенность сети железных дорог системами автоблокировки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2196,6 к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8" name="Object 6"/>
          <p:cNvGraphicFramePr/>
          <p:nvPr/>
        </p:nvGraphicFramePr>
        <p:xfrm>
          <a:off x="-1044720" y="476280"/>
          <a:ext cx="10827000" cy="71992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9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44720" y="476280"/>
                    <a:ext cx="10827000" cy="719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58 0.125 0.16647 C 0.125 0.25837 0.069 0.33295 0 0.33295 C -0.069 0.33295 -0.125 0.25837 -0.125 0.16647 C -0.125 0.07458 -0.069 0 0 0 Z">
                                      <p:cBhvr>
                                        <p:cTn id="67" dur="2000" fill="hold"/>
                                        <p:tgtEl>
                                          <p:spTgt spid="1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1" descr="Рисунок1-коп222ия"/>
          <p:cNvPicPr/>
          <p:nvPr/>
        </p:nvPicPr>
        <p:blipFill>
          <a:blip r:embed="rId1"/>
          <a:stretch/>
        </p:blipFill>
        <p:spPr>
          <a:xfrm>
            <a:off x="179280" y="0"/>
            <a:ext cx="2089080" cy="27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Безымянный1"/>
          <p:cNvPicPr/>
          <p:nvPr/>
        </p:nvPicPr>
        <p:blipFill>
          <a:blip r:embed="rId2"/>
          <a:stretch/>
        </p:blipFill>
        <p:spPr>
          <a:xfrm>
            <a:off x="324000" y="320760"/>
            <a:ext cx="8820000" cy="653724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graphicFrame>
        <p:nvGraphicFramePr>
          <p:cNvPr id="162" name="Object 78"/>
          <p:cNvGraphicFramePr/>
          <p:nvPr/>
        </p:nvGraphicFramePr>
        <p:xfrm>
          <a:off x="468360" y="1844640"/>
          <a:ext cx="8675640" cy="41115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3" name="Object 7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8360" y="1844640"/>
                    <a:ext cx="867564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Text Box 79"/>
          <p:cNvSpPr/>
          <p:nvPr/>
        </p:nvSpPr>
        <p:spPr>
          <a:xfrm>
            <a:off x="684720" y="1484280"/>
            <a:ext cx="751680" cy="3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м А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80"/>
          <p:cNvSpPr/>
          <p:nvPr/>
        </p:nvSpPr>
        <p:spPr>
          <a:xfrm>
            <a:off x="7812000" y="3573360"/>
            <a:ext cx="151128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Дороги РФ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1"/>
          <p:cNvSpPr/>
          <p:nvPr/>
        </p:nvSpPr>
        <p:spPr>
          <a:xfrm>
            <a:off x="1187280" y="2851200"/>
            <a:ext cx="58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82"/>
          <p:cNvSpPr/>
          <p:nvPr/>
        </p:nvSpPr>
        <p:spPr>
          <a:xfrm>
            <a:off x="1324080" y="3141720"/>
            <a:ext cx="583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83"/>
          <p:cNvSpPr/>
          <p:nvPr/>
        </p:nvSpPr>
        <p:spPr>
          <a:xfrm>
            <a:off x="1763640" y="3284640"/>
            <a:ext cx="58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84"/>
          <p:cNvSpPr/>
          <p:nvPr/>
        </p:nvSpPr>
        <p:spPr>
          <a:xfrm>
            <a:off x="2259000" y="2201760"/>
            <a:ext cx="584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85"/>
          <p:cNvSpPr/>
          <p:nvPr/>
        </p:nvSpPr>
        <p:spPr>
          <a:xfrm>
            <a:off x="2268360" y="2852640"/>
            <a:ext cx="586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86"/>
          <p:cNvSpPr/>
          <p:nvPr/>
        </p:nvSpPr>
        <p:spPr>
          <a:xfrm>
            <a:off x="2690640" y="2851200"/>
            <a:ext cx="586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88"/>
          <p:cNvSpPr/>
          <p:nvPr/>
        </p:nvSpPr>
        <p:spPr>
          <a:xfrm>
            <a:off x="3198960" y="2851200"/>
            <a:ext cx="58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89"/>
          <p:cNvSpPr/>
          <p:nvPr/>
        </p:nvSpPr>
        <p:spPr>
          <a:xfrm>
            <a:off x="3276720" y="3141720"/>
            <a:ext cx="5904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90"/>
          <p:cNvSpPr/>
          <p:nvPr/>
        </p:nvSpPr>
        <p:spPr>
          <a:xfrm>
            <a:off x="3708360" y="2924280"/>
            <a:ext cx="585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2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91"/>
          <p:cNvSpPr/>
          <p:nvPr/>
        </p:nvSpPr>
        <p:spPr>
          <a:xfrm>
            <a:off x="3773520" y="3141720"/>
            <a:ext cx="582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92"/>
          <p:cNvSpPr/>
          <p:nvPr/>
        </p:nvSpPr>
        <p:spPr>
          <a:xfrm>
            <a:off x="4211640" y="2922480"/>
            <a:ext cx="58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1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93"/>
          <p:cNvSpPr/>
          <p:nvPr/>
        </p:nvSpPr>
        <p:spPr>
          <a:xfrm>
            <a:off x="4284720" y="3068640"/>
            <a:ext cx="584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94"/>
          <p:cNvSpPr/>
          <p:nvPr/>
        </p:nvSpPr>
        <p:spPr>
          <a:xfrm>
            <a:off x="4707000" y="2997360"/>
            <a:ext cx="585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95"/>
          <p:cNvSpPr/>
          <p:nvPr/>
        </p:nvSpPr>
        <p:spPr>
          <a:xfrm>
            <a:off x="4788000" y="3213000"/>
            <a:ext cx="584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96"/>
          <p:cNvSpPr/>
          <p:nvPr/>
        </p:nvSpPr>
        <p:spPr>
          <a:xfrm>
            <a:off x="5148360" y="2852640"/>
            <a:ext cx="582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97"/>
          <p:cNvSpPr/>
          <p:nvPr/>
        </p:nvSpPr>
        <p:spPr>
          <a:xfrm>
            <a:off x="5284800" y="3068640"/>
            <a:ext cx="582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98"/>
          <p:cNvSpPr/>
          <p:nvPr/>
        </p:nvSpPr>
        <p:spPr>
          <a:xfrm>
            <a:off x="5724360" y="2997360"/>
            <a:ext cx="586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5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00"/>
          <p:cNvSpPr/>
          <p:nvPr/>
        </p:nvSpPr>
        <p:spPr>
          <a:xfrm>
            <a:off x="6219720" y="2924280"/>
            <a:ext cx="5842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01"/>
          <p:cNvSpPr/>
          <p:nvPr/>
        </p:nvSpPr>
        <p:spPr>
          <a:xfrm>
            <a:off x="6227640" y="3284640"/>
            <a:ext cx="58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102"/>
          <p:cNvSpPr/>
          <p:nvPr/>
        </p:nvSpPr>
        <p:spPr>
          <a:xfrm>
            <a:off x="6659640" y="3068640"/>
            <a:ext cx="585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03"/>
          <p:cNvSpPr/>
          <p:nvPr/>
        </p:nvSpPr>
        <p:spPr>
          <a:xfrm>
            <a:off x="6732720" y="3284640"/>
            <a:ext cx="582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104"/>
          <p:cNvSpPr/>
          <p:nvPr/>
        </p:nvSpPr>
        <p:spPr>
          <a:xfrm>
            <a:off x="7164360" y="3067200"/>
            <a:ext cx="5796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105"/>
          <p:cNvSpPr/>
          <p:nvPr/>
        </p:nvSpPr>
        <p:spPr>
          <a:xfrm>
            <a:off x="7236000" y="3213000"/>
            <a:ext cx="7156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06"/>
          <p:cNvSpPr/>
          <p:nvPr/>
        </p:nvSpPr>
        <p:spPr>
          <a:xfrm>
            <a:off x="7715160" y="2924280"/>
            <a:ext cx="528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07"/>
          <p:cNvSpPr/>
          <p:nvPr/>
        </p:nvSpPr>
        <p:spPr>
          <a:xfrm>
            <a:off x="7740720" y="3284640"/>
            <a:ext cx="5810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08"/>
          <p:cNvSpPr/>
          <p:nvPr/>
        </p:nvSpPr>
        <p:spPr>
          <a:xfrm>
            <a:off x="8166240" y="2922480"/>
            <a:ext cx="5824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4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109"/>
          <p:cNvSpPr/>
          <p:nvPr/>
        </p:nvSpPr>
        <p:spPr>
          <a:xfrm>
            <a:off x="8317080" y="3141720"/>
            <a:ext cx="53316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110"/>
          <p:cNvSpPr/>
          <p:nvPr/>
        </p:nvSpPr>
        <p:spPr>
          <a:xfrm>
            <a:off x="8596440" y="2706840"/>
            <a:ext cx="5839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2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12"/>
          <p:cNvSpPr/>
          <p:nvPr/>
        </p:nvSpPr>
        <p:spPr>
          <a:xfrm>
            <a:off x="8675640" y="2997360"/>
            <a:ext cx="58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13"/>
          <p:cNvSpPr/>
          <p:nvPr/>
        </p:nvSpPr>
        <p:spPr>
          <a:xfrm>
            <a:off x="0" y="260280"/>
            <a:ext cx="978552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Анали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тояния технических средств автоблокиров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лезных дорог РФ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 01.01.11 г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820000" y="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85"/>
          <p:cNvSpPr/>
          <p:nvPr/>
        </p:nvSpPr>
        <p:spPr>
          <a:xfrm>
            <a:off x="2771640" y="3209760"/>
            <a:ext cx="58608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97"/>
          <p:cNvSpPr/>
          <p:nvPr/>
        </p:nvSpPr>
        <p:spPr>
          <a:xfrm>
            <a:off x="5724360" y="3213000"/>
            <a:ext cx="58284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t">
            <a:spAutoFit/>
          </a:bodyPr>
          <a:p>
            <a:pPr algn="ctr">
              <a:tabLst>
                <a:tab algn="l" pos="0"/>
                <a:tab algn="l" pos="906480"/>
                <a:tab algn="l" pos="1812960"/>
                <a:tab algn="l" pos="2719440"/>
                <a:tab algn="l" pos="3625920"/>
                <a:tab algn="l" pos="4532400"/>
                <a:tab algn="l" pos="5438880"/>
                <a:tab algn="l" pos="6345360"/>
                <a:tab algn="l" pos="7251840"/>
                <a:tab algn="l" pos="8158320"/>
                <a:tab algn="l" pos="9064800"/>
                <a:tab algn="l" pos="9970920"/>
                <a:tab algn="l" pos="10877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Безымянный1"/>
          <p:cNvPicPr/>
          <p:nvPr/>
        </p:nvPicPr>
        <p:blipFill>
          <a:blip r:embed="rId1"/>
          <a:stretch/>
        </p:blipFill>
        <p:spPr>
          <a:xfrm>
            <a:off x="250920" y="322200"/>
            <a:ext cx="8713800" cy="65358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200" name=""/>
          <p:cNvSpPr/>
          <p:nvPr/>
        </p:nvSpPr>
        <p:spPr>
          <a:xfrm>
            <a:off x="8881920" y="0"/>
            <a:ext cx="265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826920" y="189000"/>
            <a:ext cx="763272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Times New Roman"/>
              </a:rPr>
              <a:t>Первоочередные задачи Департамента по развитию инфраструктуры на период 2011-2013 гг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68360" y="2060640"/>
            <a:ext cx="8351640" cy="1081080"/>
          </a:xfrm>
          <a:custGeom>
            <a:avLst/>
            <a:gdLst>
              <a:gd name="textAreaLeft" fmla="*/ 0 w 8351640"/>
              <a:gd name="textAreaRight" fmla="*/ 8352000 w 8351640"/>
              <a:gd name="textAreaTop" fmla="*/ 140040 h 1081080"/>
              <a:gd name="textAreaBottom" fmla="*/ 9410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>
                  <a:alpha val="12156"/>
                </a:srgbClr>
              </a:gs>
              <a:gs pos="100000">
                <a:srgbClr val="009900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завершить работы по обновлению и развитию технических средств Ж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на всех участках обращения скоростных электропоездов «Сапсан», «Аллегро»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2924280"/>
            <a:ext cx="8324640" cy="1225440"/>
          </a:xfrm>
          <a:custGeom>
            <a:avLst/>
            <a:gdLst>
              <a:gd name="textAreaLeft" fmla="*/ 0 w 8324640"/>
              <a:gd name="textAreaRight" fmla="*/ 8325000 w 8324640"/>
              <a:gd name="textAreaTop" fmla="*/ 158760 h 1225440"/>
              <a:gd name="textAreaBottom" fmla="*/ 106668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>
                  <a:alpha val="12156"/>
                </a:srgbClr>
              </a:gs>
              <a:gs pos="100000">
                <a:srgbClr val="009900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ыполнить модернизацию технических средств ЖАТ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на участках обращения электропоездов «Аэроэкспресс»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3933720"/>
            <a:ext cx="8324640" cy="1150920"/>
          </a:xfrm>
          <a:custGeom>
            <a:avLst/>
            <a:gdLst>
              <a:gd name="textAreaLeft" fmla="*/ 0 w 8324640"/>
              <a:gd name="textAreaRight" fmla="*/ 8325000 w 8324640"/>
              <a:gd name="textAreaTop" fmla="*/ 149040 h 1150920"/>
              <a:gd name="textAreaBottom" fmla="*/ 10018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>
                  <a:alpha val="12156"/>
                </a:srgbClr>
              </a:gs>
              <a:gs pos="100000">
                <a:srgbClr val="009900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реализовать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первоочередные меры, направленные на развитие инфраструктуры ЖАТ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восточного полигона Транссибирской магистрал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8360" y="4941720"/>
            <a:ext cx="8323200" cy="1151280"/>
          </a:xfrm>
          <a:custGeom>
            <a:avLst/>
            <a:gdLst>
              <a:gd name="textAreaLeft" fmla="*/ 0 w 8323200"/>
              <a:gd name="textAreaRight" fmla="*/ 8323200 w 8323200"/>
              <a:gd name="textAreaTop" fmla="*/ 149040 h 1151280"/>
              <a:gd name="textAreaBottom" fmla="*/ 1002240 h 1151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>
                  <a:alpha val="12156"/>
                </a:srgbClr>
              </a:gs>
              <a:gs pos="100000">
                <a:srgbClr val="009900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беспечить первоочередное обновление устройств ЖАТ с критичным сроком старения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превышающим двойной срок полезного использования (более 35 лет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8360" y="5931000"/>
            <a:ext cx="8351640" cy="927000"/>
          </a:xfrm>
          <a:custGeom>
            <a:avLst/>
            <a:gdLst>
              <a:gd name="textAreaLeft" fmla="*/ 0 w 8351640"/>
              <a:gd name="textAreaRight" fmla="*/ 8352000 w 8351640"/>
              <a:gd name="textAreaTop" fmla="*/ 119880 h 927000"/>
              <a:gd name="textAreaBottom" fmla="*/ 807120 h 927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009900"/>
              </a:gs>
              <a:gs pos="50000">
                <a:srgbClr val="ffffff">
                  <a:alpha val="12156"/>
                </a:srgbClr>
              </a:gs>
              <a:gs pos="100000">
                <a:srgbClr val="009900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обеспечить технологическое усиление хозяйства автоматики и телемеханик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28800" cy="27612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468360" y="981000"/>
            <a:ext cx="8334360" cy="1368360"/>
          </a:xfrm>
          <a:custGeom>
            <a:avLst/>
            <a:gdLst>
              <a:gd name="textAreaLeft" fmla="*/ 0 w 8334360"/>
              <a:gd name="textAreaRight" fmla="*/ 8334720 w 8334360"/>
              <a:gd name="textAreaTop" fmla="*/ 177120 h 1368360"/>
              <a:gd name="textAreaBottom" fmla="*/ 119124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9933"/>
              </a:gs>
              <a:gs pos="50000">
                <a:srgbClr val="ffffff">
                  <a:alpha val="12156"/>
                </a:srgbClr>
              </a:gs>
              <a:gs pos="100000">
                <a:srgbClr val="339933"/>
              </a:gs>
            </a:gsLst>
            <a:lin ang="8100000"/>
          </a:gradFill>
          <a:ln cap="rnd" w="12600">
            <a:solidFill>
              <a:srgbClr val="00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завершить до конца 2012 года оборудование 2-х путных и многопутных перегонов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постоянно действующими устройствами 2-х сторонней АБ в основных направлениях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и до 2015 года  - в прочих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1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Безымянный1"/>
          <p:cNvPicPr/>
          <p:nvPr/>
        </p:nvPicPr>
        <p:blipFill>
          <a:blip r:embed="rId1"/>
          <a:stretch/>
        </p:blipFill>
        <p:spPr>
          <a:xfrm>
            <a:off x="179280" y="88920"/>
            <a:ext cx="8785440" cy="658980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sp>
        <p:nvSpPr>
          <p:cNvPr id="210" name=""/>
          <p:cNvSpPr/>
          <p:nvPr/>
        </p:nvSpPr>
        <p:spPr>
          <a:xfrm>
            <a:off x="-468360" y="46080"/>
            <a:ext cx="1020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Анали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ввода основных средств по объектам инвестиционных проектов ЦШ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00"/>
                </a:solidFill>
                <a:latin typeface="Arial"/>
              </a:rPr>
              <a:t>2010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179280" y="981000"/>
          <a:ext cx="8809200" cy="5587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981000"/>
                    <a:ext cx="88092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250920" y="189000"/>
            <a:ext cx="2376360" cy="3078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8918280" y="0"/>
            <a:ext cx="265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616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376360" cy="30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"/>
          <p:cNvGraphicFramePr/>
          <p:nvPr/>
        </p:nvGraphicFramePr>
        <p:xfrm>
          <a:off x="0" y="1413000"/>
          <a:ext cx="9202680" cy="4687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413000"/>
                    <a:ext cx="920268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650880" y="1046160"/>
            <a:ext cx="1257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9000"/>
                <a:tab algn="l" pos="1638360"/>
                <a:tab algn="l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Тех.ед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-450720" y="333360"/>
            <a:ext cx="102074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Физические показатели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бновления устройств ЖАТ (ЭЦ, АБ, ДЦ и ДК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на сети дорог в 2010 году по всем титулам строительства ОАО "РЖД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883720" y="0"/>
            <a:ext cx="259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619280" y="5877000"/>
            <a:ext cx="27766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Всего: 1331 стрело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95640" y="5877000"/>
            <a:ext cx="208908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3333cc"/>
                </a:solidFill>
                <a:latin typeface="Arial"/>
              </a:rPr>
              <a:t>Всего: 398,3 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12000" y="5877000"/>
            <a:ext cx="1944720" cy="3373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a50021"/>
                </a:solidFill>
                <a:latin typeface="Arial"/>
              </a:rPr>
              <a:t>Всего: 297,1 к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33"/>
            </a:gs>
            <a:gs pos="50000">
              <a:srgbClr val="ffffff"/>
            </a:gs>
            <a:gs pos="100000">
              <a:srgbClr val="660033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Безымянный1"/>
          <p:cNvPicPr/>
          <p:nvPr/>
        </p:nvPicPr>
        <p:blipFill>
          <a:blip r:embed="rId1"/>
          <a:stretch/>
        </p:blipFill>
        <p:spPr>
          <a:xfrm>
            <a:off x="179280" y="260280"/>
            <a:ext cx="8893440" cy="6275520"/>
          </a:xfrm>
          <a:prstGeom prst="rect">
            <a:avLst/>
          </a:prstGeom>
          <a:ln w="22320">
            <a:solidFill>
              <a:srgbClr val="8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250920" y="241200"/>
            <a:ext cx="2376360" cy="3081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8918280" y="0"/>
            <a:ext cx="26568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360" rIns="81360" tIns="42120" bIns="42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50920" y="1268280"/>
          <a:ext cx="8789760" cy="5040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268280"/>
                    <a:ext cx="878976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-252360" y="260280"/>
            <a:ext cx="1020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Анализ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обновления устройств ЖАТ (ЭЦ, АБ) на сети дорог в 2010 году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о всем титулам строительства ОАО "РЖД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11:29:09Z</dcterms:created>
  <dc:creator/>
  <dc:description/>
  <dc:language>en-US</dc:language>
  <cp:lastModifiedBy>user</cp:lastModifiedBy>
  <dcterms:modified xsi:type="dcterms:W3CDTF">2011-03-01T06:26:00Z</dcterms:modified>
  <cp:revision>184</cp:revision>
  <dc:subject/>
  <dc:title/>
</cp:coreProperties>
</file>